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94FA21-E130-443E-9E53-A815CBB79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66857B-AC0C-4B72-A519-7203AB37B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BA5776-C948-4A59-9293-0CD2521F0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E752FE-3FBB-4CFB-A9A5-07FF27A10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6980AA-180A-41A9-BC84-F0CC99724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54DF-934B-4491-93EC-FF8608A2E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554DA-F910-4046-B3CA-24F50848B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3E3C-5960-4B5A-99E5-B3B697DD0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62C9-D6FB-4A48-8513-708859C9A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25848-3444-404E-8E49-2832D25FA9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A57EE-E65A-4C1E-B124-BE0837D093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E0F2C-A8F7-4225-95E7-D27B030552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7DB3C-2FF1-485C-BBC5-3F1805EC98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DB3A5-E585-4255-9BC2-087D4725D1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A18C8-189B-4FB5-9F07-9605B11126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57A48-9D80-41C2-B0A6-F8EE7B4070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9220-62DE-4871-8827-02CB40316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3ED6C-1DD8-4F83-B24A-057CB0167B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FD32E-5814-462D-804B-EB99D727A1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CBE7-49A8-4F61-B3FC-62FEF366AC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649E5-12ED-4FAC-A5E0-DB20562E8E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7C11B-46A8-4315-9B49-7ECA8F0AD4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47F-880A-4EDB-8BF9-FDA2B2A851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FCAA-59AE-44E1-B418-6688CA94BA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520-CC3E-408C-9263-3E850A25C8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6FAF-0916-4E4B-873A-C7F4DE454C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246-F935-4F52-B88A-394A7E8D6D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273F-8224-428B-94BB-198C226E87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162-9FC6-4E4F-8497-DE4B6B0285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75A-7B1D-4955-BC0E-B7E4B6FE64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A332-7812-415C-821C-23DD0B6501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8BF-6F87-4B25-A38D-0E51E7F57F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914-A55E-419C-8D6D-391DC533E7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1C0F-6B33-4072-8102-28D354D3E1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5BB-69EA-49D9-A60D-C53D25C38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FB37-14BE-4180-B8D8-0A55EA964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E2D3-58A0-4846-9E4F-43E85274C6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FEC95-57B4-4DA8-9938-1FDBD4615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2A4E-D988-4582-A87C-DCD54FB34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08C7-36EB-4A35-BA13-1019860DB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C2BEF-1781-4C99-AE13-B674F2B80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7610760" y="645804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038480" y="6244920"/>
            <a:ext cx="106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8413-0F5A-4764-8A35-EDC27E0A7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7924320" y="650700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90760" y="624492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2F70-09BB-4D62-96E4-927DED957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7610760" y="645804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4038480" y="6476760"/>
            <a:ext cx="106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AF09-A255-48BF-9679-D0E98AF58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9"/>
          <p:cNvSpPr/>
          <p:nvPr/>
        </p:nvSpPr>
        <p:spPr>
          <a:xfrm>
            <a:off x="1371600" y="16765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s in Competitive Bid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228600" y="5791320"/>
            <a:ext cx="8534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hington, DC • Newark • Atlanta • Chicago • Orlando • Los Angeles • Portland • Hous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/Octo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ing You Suc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and Libraries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x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district sets disqualificat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bidders submit proposals; 7 do not have any disqualification factors and 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60 pts, Refs 20 pts, History with District 20 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ct accepts all that get at least 50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of the 7 have at least 50 points and 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r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55 pts, Technical Solution 45 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ning Bidder i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4190-2F47-4056-9F45-52768A39C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m Bid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stay with my incumb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respond to all legitimate inqu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ders can’t just send spam, but you have to talk to bidders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rs that are being stonewalled can contact US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to transfer to another provider alone is not by itself a good enough reason to stay with incumb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D738-ECD8-428D-BDA5-80DC043C0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m Bid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appearances of a “done de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ost for something you don’t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lans change, have a plan to communicate with potential bid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notice on your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mmunication paths already established for RFP, if one wa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your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A3E5-3584-4186-94AD-CD1B2AB02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ggyback Cl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 in a contract signed between provider and another entity allowing others to purchase off the same 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permissible under state &amp; local re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ract or RFP must allow for other entities to be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stil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 your own Form 47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 your own competitive bid eval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all other FCC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AC4A-8D47-459B-9AE1-B745932CF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traditional Provi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As, State Agencies, etc as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your side – applicant or provider on single 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oth, then build appropriate fire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nt roles: Helping with application or providing technical assistance; help/review tech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 roles: Provid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staf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y both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C2DF-755D-4354-A49E-879CD8C43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traditional Provi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Conflicts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by Category of Serv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as SP for only one category of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as applicant for all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functional/organization s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taff function only as SP; other staff function only as appl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ESA Guidance on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B58A-6489-4CA0-88DB-B4F34924C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traditional Provi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get stu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 of “service provider” contact information on the Form 4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 of "service provider" representatives that help determine the goods and services for which you are seeking b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 of “service provider” representatives that help with vendor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8C12-B4A5-4EB2-A9AD-BE87B0C25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f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C requires fair and open competitive bidding; gifts could inhibit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cceptable under state/local regulations, could still be in violation of FCC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C will review case by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ance of violations can cause more reviews and delay commi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B015-6D9F-4275-B075-DFCFECE3A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f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ls, travel, entertainment etc offered by service provider to an 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ts offered and/or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and follow your state and local rules regarding acceptance of gifts (limits, timeframes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and follow your school/library gift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F1F9-D116-4AA9-BBB0-8BFDFAF0A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you can do: Gif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the applicable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at you have a policy that tells your staff how to handle gifts, meals, travel, entertainment, etc offered by providers and potential bid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your staff: ignorance is not bl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gift really worth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32A2-5054-4964-95BF-4A850D127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AC43-32E6-4BCA-BF92-9E341F9FF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 Day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ng with Bid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tiered vendor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m Bi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gyback Cl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raditional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6D64-6CA5-44A5-92AC-D8DDC9B9A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B088-ED80-4097-8EF6-1DEDD317D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ive Bid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Fair and open competitive bidd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conflicts of inte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consulta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competition and bi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all rules – FCC and state/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contract fine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n your docu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, retain, lessen your pai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5E72-07B0-47FF-B55D-179D46853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8 Day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28 DAYS after your Form 470 is poste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r RFP is issued bef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the b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ng your service prov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sign a contract/legally binding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ile and certify your Form 471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8 D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P handed out at walk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day clock start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st of the RFP iss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ck for 28 days restarts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issue a new RFP, then your 28 days starts again (do not have to post a new 4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d services s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other cardinal changes to R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new Form 4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ids received after 28 days, you may contact vendors to seek b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77E5-5DA0-47C5-814C-B0F03C6E1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cation with bid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 communication with 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everyone knows the same t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ly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dequate notice to potential bidders about deadlines, walk-throughs, chang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breaking ne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dequate notice to all potential bid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96A5-B99B-454A-98F1-6B229A099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-tier Bidding E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qualification/Qualification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re binary (meet/does not m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cannot be scored on range (subje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ed in full to R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ensed, Bonded and In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USAC Service Provider Identification Number (SP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5475-647B-4B60-9359-900507925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-tier Bidding E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fication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quire that potential bidders meet minimum number of qualificat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qualification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quire that potential bidders that meet any disqualification factors are not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hat all potential bidders have adequate notice of these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DE93-D6DF-4C70-BC90-FEF691691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-tier Bidding E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 Evaluation Round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of the eligible goods and service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imary fact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each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an include range of other factors (can be subjective or n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solution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utation/Prior History with the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osts of doing business with this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203D-3813-44E2-A958-B6A7B1B25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22:02:20Z</dcterms:created>
  <dc:creator>rreynolds</dc:creator>
  <dc:description/>
  <dc:language>en-US</dc:language>
  <cp:lastModifiedBy>Catriona Ayer</cp:lastModifiedBy>
  <dcterms:modified xsi:type="dcterms:W3CDTF">2009-09-18T16:50:25Z</dcterms:modified>
  <cp:revision>397</cp:revision>
  <dc:subject/>
  <dc:title>Slide 1</dc:title>
</cp:coreProperties>
</file>